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2F2-2F66-47EF-B541-A25862FB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6CC-DA4A-4517-800B-253F594E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428-FDC3-47DD-82E1-68EF6016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53F-8096-4D6A-AA55-05B6D1AF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C103-CD32-4747-B319-6792ED0A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DAF4-E34D-487C-BA83-BA6BB166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F70B-0349-40CA-9E47-02F58150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A6A9-6E09-4AF5-B91D-CCE247F8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EEC0-C270-44E3-AF74-A6ACAE89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16D3-CA1C-456A-9548-E8EBA67E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1213-6442-4747-B337-084706F5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FC4-D63F-4E94-815D-9B6F6E54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65BE-C970-46F0-BDDF-BB1C5CB5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6443-6433-4101-AE77-AA834CEF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0508-23ED-4737-B279-B417BA2E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58A6-A464-4EF8-AB57-7D0319B6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2F1B-47A5-411F-81C5-46880738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F5CB3-3C1B-4722-B8A6-93C58B5B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D8BE-7945-4862-8918-357854DD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6CEB-214D-4B36-8AFE-5BB8F6EA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5C433-F0C3-4B9C-B17B-9646A096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393B-A8FD-4CE7-BF89-34CFCA1E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DEF-06A2-449F-9C72-C04EBE28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30A53-6833-4D8A-A0D1-0E5A5C1D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3234-9190-41A6-BC72-7A7495A8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C3C4C-946A-45F2-8760-93A604B4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37993-0411-4C1C-B2E3-1846B23E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B881-4E70-4DB0-9F52-374559C2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3BCDA-CA10-4311-873C-0996420E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EAE3-1D79-485D-917D-C0A64F40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7C35-AEE4-404E-9ACA-CAFC55D0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FDF9D-859E-41D6-ABB2-96F463B2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7E6AA-C32D-4E40-B011-4D14ED9D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FDE-9796-4FBB-8055-BA54C297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2A961-2278-4579-B394-597567E9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77FC0-BB0C-4894-B127-ED0C0B01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9FEE3-6F9F-4383-968B-8D162100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74E22-45BA-4D06-99C0-9E700CE3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08A4-7634-4837-8446-794375A5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C789-6E63-4093-8828-84855A52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9FA14-09E9-4FEC-B98D-4244C12A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82FC6-60B9-40BE-B37C-BBFC26E6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C5991-F687-4D63-B0D2-43F86F27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B9B6D-DEF8-4847-A62C-2F79855D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A8A-E0EA-4F2E-BD73-35E71B76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65772-353F-4459-94B5-29FF5735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44065-4BA0-4997-9D3F-733CEAB7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AD835-EB65-4D6C-AF6F-7FC0FF27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5862-4099-4237-B9D9-A7E3CA29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5C071-11F2-489B-98D7-7B24D5D0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20BA7-45EB-4FBE-A129-20106AA0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653F5-470A-4580-95A9-FD431FA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E6515-5CB9-4A5E-9619-A95BF56B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A737D-0440-472F-B38D-C68F5D4D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40EBC-0EB1-4C48-B4DA-1EF2564B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D14-E471-4C1A-91BD-736CBBF3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510A7-EC6F-493B-A6CB-687CF325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1124F-4271-4FE9-8DAF-A5B5195F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08767-96AC-4EF2-915B-FC7B31BD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E068A-6B99-4CD0-BE54-041CC8B1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0F6EB-21D8-4663-851A-BED44314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01ABD-9654-42CE-A855-B2623BA5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E2964-F8A5-4FC9-87D8-C6A66563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F02F6-FDFA-4265-BF7A-7EED486A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61185-BEE1-478B-B711-B0D541F1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26623-DDDC-493D-A237-96DA6098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692-E8F9-4A60-BEBA-501B10DA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DEBB8-4B3F-4F02-AAE0-19A9B181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080F8-262D-40C4-88F0-78752083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C9E61-9920-4AC2-B644-D22524F7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7A20C-292A-4FD6-A322-06FD65F2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0601B-ECC2-44B5-B638-FE2FF472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52325-E803-4577-AC19-2217BC63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00EF0-9B44-4636-9ED7-2A2601EB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B888C-2CFC-48E3-B1D6-A6843479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479A2-FDB1-41A5-9A2D-3B57DB49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0F3F4-CBF0-4A05-8C6D-618E781B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508-28B0-448E-8B9A-99667459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E6183-85FA-49FE-A8FE-B5DEDA08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321AF-1691-4470-8CEF-384CA099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CE018-D7E8-4DF1-9DED-A26D83E8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06AA6-7298-49CD-94AC-BEF29C93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CE2D7-EFCF-4B91-921F-EA7CDD94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068-5B14-425C-8AC2-7A56958C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26FE-8A02-4D4D-A15F-BF58C126464F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3E02-0AA2-491C-85C0-0752B8F6F012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2F21-CD3E-4F8B-A3F6-5C3C9EBB4F79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A1BF-99CA-49E7-A12B-0F61F4C08470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3AEC-CBDE-4430-90A5-3F6C8B00BC23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A086-B015-4B7B-BE7B-EE7FB5292B62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4C23-48F4-4169-BD23-14F96787BD8A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.uk/imgres?imgurl=http://www.stbenedictscollege.co.uk/uploads/assets/national_newspapers_montage.jpg&amp;imgrefurl=http://www.stbenedictscollege.co.uk/subjects/%3Fid%3D20&amp;usg=__cjjDjKdnKvA-XsJ0fECUc0yI6vQ=&amp;h=341&amp;w=580&amp;sz=66&amp;hl=en&amp;start=1&amp;zoom=1&amp;itbs=1&amp;tbnid=I6E9cFO291i7PM:&amp;tbnh=79&amp;tbnw=134&amp;prev=/images%3Fq%3Dmedia%2Binstitutions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imgres?imgurl=http://www.biojobblog.com/uploads/image/social-media-points5(2).gif&amp;imgrefurl=http://www.biojobblog.com/tags/institution/&amp;usg=__VyDq9C51Ep_qHc13BSku8DFVh2c=&amp;h=358&amp;w=500&amp;sz=32&amp;hl=en&amp;start=2&amp;zoom=1&amp;itbs=1&amp;tbnid=jYQrnZ4lOsQD-M:&amp;tbnh=93&amp;tbnw=130&amp;prev=/images%3Fq%3Dmedia%2Binstitutions%26hl%3Den%26gbv%3D2%26tbs%3Disch: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co.uk/imgres?imgurl=http://www.stretchlimos.co.uk/TV_Channels_For_Free.jpg&amp;imgrefurl=http://www.stretchlimos.co.uk/VIP_Limousine_Hire.htm&amp;usg=__O0mfHJi6WqiBh__VD4xsZOV-XGo=&amp;h=290&amp;w=484&amp;sz=44&amp;hl=en&amp;start=2&amp;zoom=1&amp;itbs=1&amp;tbnid=YwTUOWGcojt1mM:&amp;tbnh=77&amp;tbnw=129&amp;prev=/images%3Fq%3Dtv%2Bchannels%26hl%3Den%26gbv%3D2%26tbs%3Disch:1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colophon2007.com/uploaded/file-LittleWhiteLies-1353_0.jpg&amp;imgrefurl=http://www.welovecolophon.com/newsletter/archive/newsletter_20061128.html&amp;usg=__DimtYrq6GjYh1Z3ig-ug9IrRLT0=&amp;h=579&amp;w=472&amp;sz=132&amp;hl=en&amp;start=19&amp;zoom=1&amp;itbs=1&amp;tbnid=Y2HT80sZCOXybM:&amp;tbnh=134&amp;tbnw=109&amp;prev=/images%3Fq%3Dlittle%2Bwhite%2Blies%2Bmagazine%26hl%3Den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o.uk/imgres?imgurl=http://www.changethethought.com/wp-content/littlewhitelies.jpg&amp;imgrefurl=http://www.changethethought.com/tag/magazines/&amp;usg=__do57IOb3GVM-3hdrqhcluqkHT4k=&amp;h=670&amp;w=545&amp;sz=66&amp;hl=en&amp;start=6&amp;zoom=1&amp;itbs=1&amp;tbnid=DLgmsrMOlXoNfM:&amp;tbnh=138&amp;tbnw=112&amp;prev=/images%3Fq%3Dlittle%2Bwhite%2Blies%2Bmagazine%26hl%3Den%26gbv%3D2%26tbs%3Disch: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google.co.uk/imgres?imgurl=http://www.hypebeast.com/image/2009/10/geoff-mcfetridge-little-white-lies-where-the-wild-things-issue-3.jpg&amp;imgrefurl=http://hypebeast.com/2009/10/geoff-mcfetridge-white-lies-huck-wild-magazine-covers/&amp;usg=__zks1BAl9bg0TQjni5_H4rD8bxqI=&amp;h=760&amp;w=620&amp;sz=76&amp;hl=en&amp;start=2&amp;zoom=1&amp;itbs=1&amp;tbnid=hX9HuVaNufsssM:&amp;tbnh=142&amp;tbnw=116&amp;prev=/images%3Fq%3Dlittle%2Bwhite%2Blies%2Bmagazine%26hl%3Den%26gbv%3D2%26tbs%3Disch:1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abc.net.au/reslib/200901/r327806_1472907.jpg&amp;imgrefurl=http://www.abc.net.au/news/stories/2009/01/04/2458682.htm&amp;usg=__gOSk5kv2SADQ0r1vvtk9jZr2O5M=&amp;h=478&amp;w=840&amp;sz=58&amp;hl=en&amp;start=8&amp;zoom=1&amp;itbs=1&amp;tbnid=ZIyccniKdov3_M:&amp;tbnh=83&amp;tbnw=145&amp;prev=/images%3Fq%3Ddr%2Bwho%2BBBC%26hl%3Den%26gbv%3D2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.uk/imgres?imgurl=http://www.pinknews.co.uk/images/coronationstreet.jpg&amp;imgrefurl=http://www.pinknews.co.uk/2010/07/20/lesbian-coronation-street-plot-not-a-phase/&amp;usg=__iwJ3DLQd-XBmJLNfAejy4sYfEWY=&amp;h=300&amp;w=300&amp;sz=28&amp;hl=en&amp;start=5&amp;zoom=1&amp;itbs=1&amp;tbnid=_lD-GlxKtYjoiM:&amp;tbnh=116&amp;tbnw=116&amp;prev=/images%3Fq%3Dcoronation%2Bstreet%26hl%3Den%26gbv%3D2%26tbs%3Disch: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google.co.uk/imgres?imgurl=http://www.sciencemediacentre.co.nz/wp-content/upload/2009/01/sun_front_page.jpg&amp;imgrefurl=http://www.sciencemediacentre.co.nz/2009/01/26/do-embargoes-make-journalists-lazy/&amp;usg=__ZOzE3euliZaJzeQdDGRgfNTzJyA=&amp;h=592&amp;w=472&amp;sz=73&amp;hl=en&amp;start=15&amp;zoom=1&amp;itbs=1&amp;tbnid=qYKgL-E8I2vK-M:&amp;tbnh=135&amp;tbnw=108&amp;prev=/images%3Fq%3Dthe%2Bsun%2Bnewspaper%26hl%3Den%26gbv%3D2%26tbs%3Disch:1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uninorte.edu.co/noticias_uninorte/upload/Image/Manuel_Alvarado_nota.jpg&amp;imgrefurl=http://www.uninorte.edu.co/noticias_uninorte/secciones.asp%3FID%3D243&amp;usg=__pHlVgoxQ4thiN9Pzb7hTJcZremc=&amp;h=290&amp;w=420&amp;sz=180&amp;hl=en&amp;start=1&amp;zoom=1&amp;itbs=1&amp;tbnid=QcbzVt4MmNP1TM:&amp;tbnh=86&amp;tbnw=125&amp;prev=/images%3Fq%3Dmanuel%2Balvarado%26hl%3Den%26gbv%3D2%26tbs%3Disch: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rbel"/>
              </a:rPr>
              <a:t>AS Media Stud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476280"/>
            <a:ext cx="2293920" cy="13525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981000"/>
            <a:ext cx="1985760" cy="1420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1844640"/>
            <a:ext cx="23036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260280"/>
            <a:ext cx="1990440" cy="2448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907920"/>
            <a:ext cx="1644840" cy="20257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3068640"/>
            <a:ext cx="1941480" cy="2376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211640" y="260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ttle White Li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8360" y="1341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mall, bi-monthly independent movie magaz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836640"/>
            <a:ext cx="360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88000" y="2781360"/>
            <a:ext cx="23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ocked in selected WH Smith stores and some independent cine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08720" y="213372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08360" y="4221000"/>
            <a:ext cx="23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ublished and distributed by The Church of Lond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724360" y="4220640"/>
            <a:ext cx="792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84720" y="558972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mall, independent creative agency based in Lond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03640" y="5516640"/>
            <a:ext cx="1081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Convergence of old and new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00000" y="1989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ll terrestrial broadcasters and newspaper owners have bought into the interne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Murdoch’s News Corporation has bought MySpac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Google started as a search engine – now owns YouTube, online advertising group DoubleClick and has expanded its advertising business into TV, print, radio and mobi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Key questions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at is the institutional source of the tex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 what ways has the text been influenced or shaped by the institution which produced i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s the source a public service or commercial institution?  What difference does it make to the tex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o owns and controls the institution concerned and does this matter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ow has the text been distributed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**Key Term**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7164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ff"/>
                </a:solidFill>
                <a:uFillTx/>
                <a:latin typeface="Corbel"/>
              </a:rPr>
              <a:t>Institu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 organisation or company that produces and/or distributes med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n institution is formed by the relations of production, distribution, consumption and regulat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1eeff"/>
                </a:solidFill>
                <a:latin typeface="Consolas"/>
              </a:rPr>
              <a:t>Understanding institution is about understanding…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o produces media tex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at their set of codes and values ar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at their relationship is to us as individu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476360" y="5589720"/>
            <a:ext cx="669780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When analysing a media text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at is the institution behind the tex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 what ways has the text been influenced or shaped by the institution that produced i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s the source a public service or commercial institution – what difference does this make to the tex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ow has the text been distributed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549360"/>
            <a:ext cx="3283200" cy="18795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0920" y="400536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2349360"/>
            <a:ext cx="1842840" cy="2305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5651640" y="83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19280" y="321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84720" y="53737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ws Intern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Manuel Alvarad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In </a:t>
            </a:r>
            <a:r>
              <a:rPr b="0" i="1" lang="en-GB" sz="2800" spc="-1" strike="noStrike">
                <a:solidFill>
                  <a:srgbClr val="ffffff"/>
                </a:solidFill>
                <a:latin typeface="Corbel"/>
              </a:rPr>
              <a:t>Learning the Media</a:t>
            </a: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, he lists 7 features that shape media institution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FINANC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PRODUCTION PRACT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CIRCUL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UDIENCE CONSTRUC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UDIENCE US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3573360"/>
            <a:ext cx="16221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Large Conglomerate Corpora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00000" y="155700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 mainstream institutions commission and select material that fits their agend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ll institutions need to make mone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Commercial institutions are supported by advertising revenu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y pay for the production of the tex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Have an interest in its content, style and attitud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y may also organise marketing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2871720" cy="42483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576440" cy="25210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1620720" cy="2592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7164360" y="3500280"/>
            <a:ext cx="1486080" cy="2376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979640" y="5445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rry Potter and the Deathly Hallows Par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Independent Institu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dependent and free from the financial and organisational influence of the large scale corporations that dominate the market and industr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hey are often small scale, appeal to a niche audienc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Often distributed and consumed in different places to that of mainstream medi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0:46:28Z</dcterms:created>
  <dc:creator>Grainne</dc:creator>
  <dc:description/>
  <dc:language>en-US</dc:language>
  <cp:lastModifiedBy>gbrolly940</cp:lastModifiedBy>
  <dcterms:modified xsi:type="dcterms:W3CDTF">2010-10-12T08:39:04Z</dcterms:modified>
  <cp:revision>16</cp:revision>
  <dc:subject/>
  <dc:title>Institution</dc:title>
</cp:coreProperties>
</file>